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rumble.wav" ContentType="audio/x-wav"/>
  <Override PartName="/ppt/media/image6.png" ContentType="image/png"/>
  <Override PartName="/ppt/media/image2.png" ContentType="image/png"/>
  <Override PartName="/ppt/media/image3.png" ContentType="image/png"/>
  <Override PartName="/ppt/media/hasta.wav" ContentType="audio/x-wav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CA1-F47B-4AF8-B92D-2C424D16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F21-6611-47A7-A725-9B4211B0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794-941A-435C-B73E-DC4D2399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12A-1458-4749-BEE5-9BD3C108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76B-3637-4E33-9C6C-73B6A633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C73-8B84-478F-9C66-7D04B2BE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974-F0CF-44C3-9E22-A2D2171E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3B2-AC42-42AF-9A3D-7744BFEB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F88-F96D-484B-95F9-8131F4E6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6E5-F9A1-4796-8152-F3FB1CAD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4BC-3BFB-4EFB-A7D2-5635C9F0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447-02F9-4E21-8E32-660C9AF2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C9E6-F503-4324-BE16-805C969D5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rumbl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hast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14400" y="304920"/>
            <a:ext cx="7010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Name that Noun II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971800" y="56386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C:\images and sounds\items\suitcases1.gif"/>
          <p:cNvPicPr/>
          <p:nvPr/>
        </p:nvPicPr>
        <p:blipFill>
          <a:blip r:embed="rId1"/>
          <a:stretch/>
        </p:blipFill>
        <p:spPr>
          <a:xfrm>
            <a:off x="1371600" y="3228840"/>
            <a:ext cx="51325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um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18400" y="438120"/>
            <a:ext cx="695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donkey was tir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Object 5" descr=""/>
          <p:cNvPicPr/>
          <p:nvPr/>
        </p:nvPicPr>
        <p:blipFill>
          <a:blip r:embed="rId1"/>
          <a:stretch/>
        </p:blipFill>
        <p:spPr>
          <a:xfrm>
            <a:off x="2251080" y="1515960"/>
            <a:ext cx="464040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3"/>
          <p:cNvSpPr txBox="1"/>
          <p:nvPr/>
        </p:nvSpPr>
        <p:spPr>
          <a:xfrm>
            <a:off x="533520" y="1905120"/>
            <a:ext cx="8229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Oh no!  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Sorry  you missed it.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3581280" y="4952880"/>
            <a:ext cx="1752840" cy="1447920"/>
          </a:xfrm>
          <a:custGeom>
            <a:avLst/>
            <a:gdLst>
              <a:gd name="textAreaLeft" fmla="*/ 93600 w 1752840"/>
              <a:gd name="textAreaRight" fmla="*/ 1659240 w 17528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6148" h="21600">
                <a:moveTo>
                  <a:pt x="0" y="0"/>
                </a:moveTo>
                <a:lnTo>
                  <a:pt x="26148" y="0"/>
                </a:lnTo>
                <a:lnTo>
                  <a:pt x="26148" y="21600"/>
                </a:lnTo>
                <a:lnTo>
                  <a:pt x="0" y="21600"/>
                </a:lnTo>
                <a:close/>
              </a:path>
              <a:path fill="lightenLess" w="26148" h="21600">
                <a:moveTo>
                  <a:pt x="0" y="0"/>
                </a:moveTo>
                <a:lnTo>
                  <a:pt x="26148" y="0"/>
                </a:lnTo>
                <a:lnTo>
                  <a:pt x="24748" y="1400"/>
                </a:lnTo>
                <a:lnTo>
                  <a:pt x="1400" y="1400"/>
                </a:lnTo>
                <a:close/>
              </a:path>
              <a:path fill="darken" w="26148" h="21600">
                <a:moveTo>
                  <a:pt x="26148" y="0"/>
                </a:moveTo>
                <a:lnTo>
                  <a:pt x="26148" y="21600"/>
                </a:lnTo>
                <a:lnTo>
                  <a:pt x="24748" y="20200"/>
                </a:lnTo>
                <a:lnTo>
                  <a:pt x="24748" y="1400"/>
                </a:lnTo>
                <a:close/>
              </a:path>
              <a:path fill="darkenLess" w="26148" h="21600">
                <a:moveTo>
                  <a:pt x="261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8" y="20200"/>
                </a:lnTo>
                <a:close/>
              </a:path>
              <a:path fill="lighten" w="261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48" h="21600">
                <a:moveTo>
                  <a:pt x="6067" y="7493"/>
                </a:moveTo>
                <a:lnTo>
                  <a:pt x="9575" y="7493"/>
                </a:lnTo>
                <a:lnTo>
                  <a:pt x="9575" y="12828"/>
                </a:lnTo>
                <a:cubicBezTo>
                  <a:pt x="9575" y="13751"/>
                  <a:pt x="10376" y="14482"/>
                  <a:pt x="11411" y="14482"/>
                </a:cubicBezTo>
                <a:lnTo>
                  <a:pt x="13074" y="14482"/>
                </a:lnTo>
                <a:cubicBezTo>
                  <a:pt x="14110" y="14482"/>
                  <a:pt x="14910" y="13751"/>
                  <a:pt x="14910" y="12828"/>
                </a:cubicBezTo>
                <a:lnTo>
                  <a:pt x="14910" y="7493"/>
                </a:lnTo>
                <a:lnTo>
                  <a:pt x="13074" y="7493"/>
                </a:lnTo>
                <a:lnTo>
                  <a:pt x="16581" y="3985"/>
                </a:lnTo>
                <a:lnTo>
                  <a:pt x="20254" y="7493"/>
                </a:lnTo>
                <a:lnTo>
                  <a:pt x="18418" y="7493"/>
                </a:lnTo>
                <a:lnTo>
                  <a:pt x="18418" y="12828"/>
                </a:lnTo>
                <a:cubicBezTo>
                  <a:pt x="18418" y="15596"/>
                  <a:pt x="15842" y="18155"/>
                  <a:pt x="13074" y="18155"/>
                </a:cubicBezTo>
                <a:lnTo>
                  <a:pt x="11411" y="18155"/>
                </a:lnTo>
                <a:cubicBezTo>
                  <a:pt x="8644" y="18155"/>
                  <a:pt x="6067" y="15596"/>
                  <a:pt x="6067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1828800" y="914400"/>
            <a:ext cx="6095880" cy="28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YES!!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Picture 4" descr="D:\clipart\new\a.gif"/>
          <p:cNvPicPr/>
          <p:nvPr/>
        </p:nvPicPr>
        <p:blipFill>
          <a:blip r:embed="rId1"/>
          <a:stretch/>
        </p:blipFill>
        <p:spPr>
          <a:xfrm>
            <a:off x="4343400" y="4343400"/>
            <a:ext cx="819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6120" y="361800"/>
            <a:ext cx="640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dog was scar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images and sounds\creatures\dogshocked.gif"/>
          <p:cNvPicPr/>
          <p:nvPr/>
        </p:nvPicPr>
        <p:blipFill>
          <a:blip r:embed="rId1"/>
          <a:stretch/>
        </p:blipFill>
        <p:spPr>
          <a:xfrm>
            <a:off x="2895480" y="1828800"/>
            <a:ext cx="3733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533520" y="1905120"/>
            <a:ext cx="8229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Oh no!  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Sorry  you missed it.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AutoShape 5">
            <a:hlinkClick r:id="" action="ppaction://hlinkshowjump?jump=previousslide"/>
          </p:cNvPr>
          <p:cNvSpPr/>
          <p:nvPr/>
        </p:nvSpPr>
        <p:spPr>
          <a:xfrm>
            <a:off x="3581280" y="4952880"/>
            <a:ext cx="1752840" cy="1447920"/>
          </a:xfrm>
          <a:custGeom>
            <a:avLst/>
            <a:gdLst>
              <a:gd name="textAreaLeft" fmla="*/ 93600 w 1752840"/>
              <a:gd name="textAreaRight" fmla="*/ 1659240 w 17528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6148" h="21600">
                <a:moveTo>
                  <a:pt x="0" y="0"/>
                </a:moveTo>
                <a:lnTo>
                  <a:pt x="26148" y="0"/>
                </a:lnTo>
                <a:lnTo>
                  <a:pt x="26148" y="21600"/>
                </a:lnTo>
                <a:lnTo>
                  <a:pt x="0" y="21600"/>
                </a:lnTo>
                <a:close/>
              </a:path>
              <a:path fill="lightenLess" w="26148" h="21600">
                <a:moveTo>
                  <a:pt x="0" y="0"/>
                </a:moveTo>
                <a:lnTo>
                  <a:pt x="26148" y="0"/>
                </a:lnTo>
                <a:lnTo>
                  <a:pt x="24748" y="1400"/>
                </a:lnTo>
                <a:lnTo>
                  <a:pt x="1400" y="1400"/>
                </a:lnTo>
                <a:close/>
              </a:path>
              <a:path fill="darken" w="26148" h="21600">
                <a:moveTo>
                  <a:pt x="26148" y="0"/>
                </a:moveTo>
                <a:lnTo>
                  <a:pt x="26148" y="21600"/>
                </a:lnTo>
                <a:lnTo>
                  <a:pt x="24748" y="20200"/>
                </a:lnTo>
                <a:lnTo>
                  <a:pt x="24748" y="1400"/>
                </a:lnTo>
                <a:close/>
              </a:path>
              <a:path fill="darkenLess" w="26148" h="21600">
                <a:moveTo>
                  <a:pt x="261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8" y="20200"/>
                </a:lnTo>
                <a:close/>
              </a:path>
              <a:path fill="lighten" w="261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48" h="21600">
                <a:moveTo>
                  <a:pt x="6067" y="7493"/>
                </a:moveTo>
                <a:lnTo>
                  <a:pt x="9575" y="7493"/>
                </a:lnTo>
                <a:lnTo>
                  <a:pt x="9575" y="12828"/>
                </a:lnTo>
                <a:cubicBezTo>
                  <a:pt x="9575" y="13751"/>
                  <a:pt x="10376" y="14482"/>
                  <a:pt x="11411" y="14482"/>
                </a:cubicBezTo>
                <a:lnTo>
                  <a:pt x="13074" y="14482"/>
                </a:lnTo>
                <a:cubicBezTo>
                  <a:pt x="14110" y="14482"/>
                  <a:pt x="14910" y="13751"/>
                  <a:pt x="14910" y="12828"/>
                </a:cubicBezTo>
                <a:lnTo>
                  <a:pt x="14910" y="7493"/>
                </a:lnTo>
                <a:lnTo>
                  <a:pt x="13074" y="7493"/>
                </a:lnTo>
                <a:lnTo>
                  <a:pt x="16581" y="3985"/>
                </a:lnTo>
                <a:lnTo>
                  <a:pt x="20254" y="7493"/>
                </a:lnTo>
                <a:lnTo>
                  <a:pt x="18418" y="7493"/>
                </a:lnTo>
                <a:lnTo>
                  <a:pt x="18418" y="12828"/>
                </a:lnTo>
                <a:cubicBezTo>
                  <a:pt x="18418" y="15596"/>
                  <a:pt x="15842" y="18155"/>
                  <a:pt x="13074" y="18155"/>
                </a:cubicBezTo>
                <a:lnTo>
                  <a:pt x="11411" y="18155"/>
                </a:lnTo>
                <a:cubicBezTo>
                  <a:pt x="8644" y="18155"/>
                  <a:pt x="6067" y="15596"/>
                  <a:pt x="6067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1828800" y="914400"/>
            <a:ext cx="6095880" cy="28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YES!!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Picture 4" descr="D:\clipart\new\a.gif"/>
          <p:cNvPicPr/>
          <p:nvPr/>
        </p:nvPicPr>
        <p:blipFill>
          <a:blip r:embed="rId1"/>
          <a:stretch/>
        </p:blipFill>
        <p:spPr>
          <a:xfrm>
            <a:off x="4343400" y="4343400"/>
            <a:ext cx="819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676520" y="914400"/>
            <a:ext cx="5843520" cy="487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T'S ALL FOLKS!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3" name="Picture 5" descr="D:\clipart\new\baby1.gif"/>
          <p:cNvPicPr/>
          <p:nvPr/>
        </p:nvPicPr>
        <p:blipFill>
          <a:blip r:embed="rId1"/>
          <a:stretch/>
        </p:blipFill>
        <p:spPr>
          <a:xfrm>
            <a:off x="4038480" y="2743200"/>
            <a:ext cx="126864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762120" y="1504800"/>
            <a:ext cx="73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ad each sentence an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on the nou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D:\clipart\computer\mouse.gif"/>
          <p:cNvPicPr/>
          <p:nvPr/>
        </p:nvPicPr>
        <p:blipFill>
          <a:blip r:embed="rId1"/>
          <a:stretch/>
        </p:blipFill>
        <p:spPr>
          <a:xfrm>
            <a:off x="3962520" y="3657600"/>
            <a:ext cx="1296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51560" y="1752480"/>
            <a:ext cx="873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noun is a word that name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person, place, or th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D:\clipart\new\goofed.gif"/>
          <p:cNvPicPr/>
          <p:nvPr/>
        </p:nvPicPr>
        <p:blipFill>
          <a:blip r:embed="rId1"/>
          <a:stretch/>
        </p:blipFill>
        <p:spPr>
          <a:xfrm>
            <a:off x="3733920" y="3657600"/>
            <a:ext cx="2057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79720" y="533520"/>
            <a:ext cx="886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Please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give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me the cand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images and sounds\items\gingerman.gif"/>
          <p:cNvPicPr/>
          <p:nvPr/>
        </p:nvPicPr>
        <p:blipFill>
          <a:blip r:embed="rId3"/>
          <a:stretch/>
        </p:blipFill>
        <p:spPr>
          <a:xfrm>
            <a:off x="3200400" y="1981080"/>
            <a:ext cx="2209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533520" y="1905120"/>
            <a:ext cx="8229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Oh no!  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Sorry  you missed it.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AutoShape 4">
            <a:hlinkClick r:id="" action="ppaction://hlinkshowjump?jump=previousslide"/>
          </p:cNvPr>
          <p:cNvSpPr/>
          <p:nvPr/>
        </p:nvSpPr>
        <p:spPr>
          <a:xfrm>
            <a:off x="3581280" y="4952880"/>
            <a:ext cx="1752840" cy="1447920"/>
          </a:xfrm>
          <a:custGeom>
            <a:avLst/>
            <a:gdLst>
              <a:gd name="textAreaLeft" fmla="*/ 93600 w 1752840"/>
              <a:gd name="textAreaRight" fmla="*/ 1659240 w 17528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6148" h="21600">
                <a:moveTo>
                  <a:pt x="0" y="0"/>
                </a:moveTo>
                <a:lnTo>
                  <a:pt x="26148" y="0"/>
                </a:lnTo>
                <a:lnTo>
                  <a:pt x="26148" y="21600"/>
                </a:lnTo>
                <a:lnTo>
                  <a:pt x="0" y="21600"/>
                </a:lnTo>
                <a:close/>
              </a:path>
              <a:path fill="lightenLess" w="26148" h="21600">
                <a:moveTo>
                  <a:pt x="0" y="0"/>
                </a:moveTo>
                <a:lnTo>
                  <a:pt x="26148" y="0"/>
                </a:lnTo>
                <a:lnTo>
                  <a:pt x="24748" y="1400"/>
                </a:lnTo>
                <a:lnTo>
                  <a:pt x="1400" y="1400"/>
                </a:lnTo>
                <a:close/>
              </a:path>
              <a:path fill="darken" w="26148" h="21600">
                <a:moveTo>
                  <a:pt x="26148" y="0"/>
                </a:moveTo>
                <a:lnTo>
                  <a:pt x="26148" y="21600"/>
                </a:lnTo>
                <a:lnTo>
                  <a:pt x="24748" y="20200"/>
                </a:lnTo>
                <a:lnTo>
                  <a:pt x="24748" y="1400"/>
                </a:lnTo>
                <a:close/>
              </a:path>
              <a:path fill="darkenLess" w="26148" h="21600">
                <a:moveTo>
                  <a:pt x="261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8" y="20200"/>
                </a:lnTo>
                <a:close/>
              </a:path>
              <a:path fill="lighten" w="261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48" h="21600">
                <a:moveTo>
                  <a:pt x="6067" y="7493"/>
                </a:moveTo>
                <a:lnTo>
                  <a:pt x="9575" y="7493"/>
                </a:lnTo>
                <a:lnTo>
                  <a:pt x="9575" y="12828"/>
                </a:lnTo>
                <a:cubicBezTo>
                  <a:pt x="9575" y="13751"/>
                  <a:pt x="10376" y="14482"/>
                  <a:pt x="11411" y="14482"/>
                </a:cubicBezTo>
                <a:lnTo>
                  <a:pt x="13074" y="14482"/>
                </a:lnTo>
                <a:cubicBezTo>
                  <a:pt x="14110" y="14482"/>
                  <a:pt x="14910" y="13751"/>
                  <a:pt x="14910" y="12828"/>
                </a:cubicBezTo>
                <a:lnTo>
                  <a:pt x="14910" y="7493"/>
                </a:lnTo>
                <a:lnTo>
                  <a:pt x="13074" y="7493"/>
                </a:lnTo>
                <a:lnTo>
                  <a:pt x="16581" y="3985"/>
                </a:lnTo>
                <a:lnTo>
                  <a:pt x="20254" y="7493"/>
                </a:lnTo>
                <a:lnTo>
                  <a:pt x="18418" y="7493"/>
                </a:lnTo>
                <a:lnTo>
                  <a:pt x="18418" y="12828"/>
                </a:lnTo>
                <a:cubicBezTo>
                  <a:pt x="18418" y="15596"/>
                  <a:pt x="15842" y="18155"/>
                  <a:pt x="13074" y="18155"/>
                </a:cubicBezTo>
                <a:lnTo>
                  <a:pt x="11411" y="18155"/>
                </a:lnTo>
                <a:cubicBezTo>
                  <a:pt x="8644" y="18155"/>
                  <a:pt x="6067" y="15596"/>
                  <a:pt x="6067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1828800" y="914400"/>
            <a:ext cx="6095880" cy="28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YES!!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4" descr="D:\clipart\new\a.gif"/>
          <p:cNvPicPr/>
          <p:nvPr/>
        </p:nvPicPr>
        <p:blipFill>
          <a:blip r:embed="rId1"/>
          <a:stretch/>
        </p:blipFill>
        <p:spPr>
          <a:xfrm>
            <a:off x="4343400" y="4343400"/>
            <a:ext cx="819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203480" y="361800"/>
            <a:ext cx="727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dog barked at hi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:\images and sounds\creatures\bulldog.gif"/>
          <p:cNvPicPr/>
          <p:nvPr/>
        </p:nvPicPr>
        <p:blipFill>
          <a:blip r:embed="rId1"/>
          <a:stretch/>
        </p:blipFill>
        <p:spPr>
          <a:xfrm>
            <a:off x="1219320" y="2133720"/>
            <a:ext cx="5486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3"/>
          <p:cNvSpPr txBox="1"/>
          <p:nvPr/>
        </p:nvSpPr>
        <p:spPr>
          <a:xfrm>
            <a:off x="533520" y="1905120"/>
            <a:ext cx="8229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Oh no!  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Sorry  you missed it.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AutoShape 5">
            <a:hlinkClick r:id="" action="ppaction://hlinkshowjump?jump=previousslide"/>
          </p:cNvPr>
          <p:cNvSpPr/>
          <p:nvPr/>
        </p:nvSpPr>
        <p:spPr>
          <a:xfrm>
            <a:off x="3581280" y="4952880"/>
            <a:ext cx="1752840" cy="1447920"/>
          </a:xfrm>
          <a:custGeom>
            <a:avLst/>
            <a:gdLst>
              <a:gd name="textAreaLeft" fmla="*/ 93600 w 1752840"/>
              <a:gd name="textAreaRight" fmla="*/ 1659240 w 17528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6148" h="21600">
                <a:moveTo>
                  <a:pt x="0" y="0"/>
                </a:moveTo>
                <a:lnTo>
                  <a:pt x="26148" y="0"/>
                </a:lnTo>
                <a:lnTo>
                  <a:pt x="26148" y="21600"/>
                </a:lnTo>
                <a:lnTo>
                  <a:pt x="0" y="21600"/>
                </a:lnTo>
                <a:close/>
              </a:path>
              <a:path fill="lightenLess" w="26148" h="21600">
                <a:moveTo>
                  <a:pt x="0" y="0"/>
                </a:moveTo>
                <a:lnTo>
                  <a:pt x="26148" y="0"/>
                </a:lnTo>
                <a:lnTo>
                  <a:pt x="24748" y="1400"/>
                </a:lnTo>
                <a:lnTo>
                  <a:pt x="1400" y="1400"/>
                </a:lnTo>
                <a:close/>
              </a:path>
              <a:path fill="darken" w="26148" h="21600">
                <a:moveTo>
                  <a:pt x="26148" y="0"/>
                </a:moveTo>
                <a:lnTo>
                  <a:pt x="26148" y="21600"/>
                </a:lnTo>
                <a:lnTo>
                  <a:pt x="24748" y="20200"/>
                </a:lnTo>
                <a:lnTo>
                  <a:pt x="24748" y="1400"/>
                </a:lnTo>
                <a:close/>
              </a:path>
              <a:path fill="darkenLess" w="26148" h="21600">
                <a:moveTo>
                  <a:pt x="261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8" y="20200"/>
                </a:lnTo>
                <a:close/>
              </a:path>
              <a:path fill="lighten" w="261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48" h="21600">
                <a:moveTo>
                  <a:pt x="6067" y="7493"/>
                </a:moveTo>
                <a:lnTo>
                  <a:pt x="9575" y="7493"/>
                </a:lnTo>
                <a:lnTo>
                  <a:pt x="9575" y="12828"/>
                </a:lnTo>
                <a:cubicBezTo>
                  <a:pt x="9575" y="13751"/>
                  <a:pt x="10376" y="14482"/>
                  <a:pt x="11411" y="14482"/>
                </a:cubicBezTo>
                <a:lnTo>
                  <a:pt x="13074" y="14482"/>
                </a:lnTo>
                <a:cubicBezTo>
                  <a:pt x="14110" y="14482"/>
                  <a:pt x="14910" y="13751"/>
                  <a:pt x="14910" y="12828"/>
                </a:cubicBezTo>
                <a:lnTo>
                  <a:pt x="14910" y="7493"/>
                </a:lnTo>
                <a:lnTo>
                  <a:pt x="13074" y="7493"/>
                </a:lnTo>
                <a:lnTo>
                  <a:pt x="16581" y="3985"/>
                </a:lnTo>
                <a:lnTo>
                  <a:pt x="20254" y="7493"/>
                </a:lnTo>
                <a:lnTo>
                  <a:pt x="18418" y="7493"/>
                </a:lnTo>
                <a:lnTo>
                  <a:pt x="18418" y="12828"/>
                </a:lnTo>
                <a:cubicBezTo>
                  <a:pt x="18418" y="15596"/>
                  <a:pt x="15842" y="18155"/>
                  <a:pt x="13074" y="18155"/>
                </a:cubicBezTo>
                <a:lnTo>
                  <a:pt x="11411" y="18155"/>
                </a:lnTo>
                <a:cubicBezTo>
                  <a:pt x="8644" y="18155"/>
                  <a:pt x="6067" y="15596"/>
                  <a:pt x="6067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828800" y="914400"/>
            <a:ext cx="6095880" cy="28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YES!!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Picture 4" descr="D:\clipart\new\a.gif"/>
          <p:cNvPicPr/>
          <p:nvPr/>
        </p:nvPicPr>
        <p:blipFill>
          <a:blip r:embed="rId1"/>
          <a:stretch/>
        </p:blipFill>
        <p:spPr>
          <a:xfrm>
            <a:off x="4343400" y="4343400"/>
            <a:ext cx="819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8T18:36:16Z</dcterms:created>
  <dc:creator>Pre-Installed-User</dc:creator>
  <dc:description/>
  <dc:language>en-US</dc:language>
  <cp:lastModifiedBy>Laura McDow</cp:lastModifiedBy>
  <dcterms:modified xsi:type="dcterms:W3CDTF">2010-09-17T17:11:13Z</dcterms:modified>
  <cp:revision>6</cp:revision>
  <dc:subject/>
  <dc:title>No Slide Title</dc:title>
</cp:coreProperties>
</file>